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2B17-3F63-4D6C-8103-0AA4B49AA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these strategies on occasion to reinforce their use.</a:t>
            </a: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B57F-9CC4-4046-8423-CD43E78AD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AAF5-84A1-4E19-833C-B569DA196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2688-511D-4800-A5E7-F907C539A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article aloud, stopping to make comments, reflecting on your prediction. You can also comment on information in the text that is less useful than other text (such as who funded the research) and how you can sort that out by relying on what you learned from scanning, skimming, and predicting.</a:t>
            </a: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6873-EB7B-46B7-9599-61E01A824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the same steps, but have the group respond to the questions first. Clarify and assist only a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article can be found online at http://www.ars.usda.gov/is/pr/2007/070828.htm?pf=1#_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A63B-EF9E-4ADB-A0C1-4CD964B0C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DC61-2318-47D4-94E3-8FAB92EFF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4EA8-F405-4C50-94C7-3B65A41A6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9ED2-A12D-4FE4-99E5-4C89FE0DE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the article on screen or in a handout with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article can be found online at http://www.ars.usda.gov/is/pr/2009/090430.htm?pf=1#_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447A-91F2-4BF1-9CF8-25C973BCD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B8B885-A962-46A7-9E0A-AE45942F2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C27B29C8-1DF2-4659-B317-A828AB13C08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CE0F90-3721-4127-AB04-A836699F3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52FCE5-D080-4FE4-83FF-56A19E7F53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E18EE1-DE2C-4354-9F43-E5FC46FA39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4B0E7-8D7E-428E-9128-22DB10CB2E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8BE8CE-CB7C-4113-B05B-2091E19C1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A4482-F05C-4289-95E4-26B07C4D8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F00EA3-84F8-440A-9B72-FF25FF6195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6F386D-9B2E-4016-8CCB-EF7E06C222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E301F4-7588-4036-8C15-278AC45653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ACD4F8-5556-4C1D-B0BD-680095D37C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4B680A35-C36B-4DB5-B7E1-6BF47AD8FE1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264730-F815-478F-B477-C65388E89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416624-72A1-4053-ADF6-367E173087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0FFD8A-35B6-4BD7-BDD2-4244F594FF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10C8C7-F9F5-4975-B5C3-E25D0D723E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2EC135-DBB9-484B-B880-AFFA25E08C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4ADE40-0EE7-4DBD-8A47-9748935FF1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A213D2-018B-4DF6-A6CF-FDF9C79E90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166B55-194D-4133-9B52-2984B67786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91472E-75FF-4A93-B49B-51DCAF5DFB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1349D0-13CF-40DF-80D8-0A23E73301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0D581B05-55B5-4D5C-8B6B-4E2DD3407AA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B9D7E1-FCD1-44DF-8F68-C7FDADB932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EDF538E-FA31-4EB4-A5A3-177ABA1214E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48B862-32AA-4A90-9728-D1FC799914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BAB561-AB8D-4E00-92DB-79BB893630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993AF3-8EFD-44FA-9071-6E35A5A63F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CFA375-8BE5-4D2F-A3CE-49F0DD8E17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1C7EC8-BB16-48CB-BF58-B29E027A55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BDAC5F-7413-41BA-A27E-B99D10A58A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5DDDC8-9262-41B9-AB9F-3F75EC359A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0418DE-FF2B-4562-B7C9-FDBD45E575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F5803A-F1CC-49E1-A72C-93BB1AE633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6F197C-7405-4836-85C9-7BF93FB840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D42369-54CE-4105-9D51-33E9154C7A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0F39E2-32C2-4962-9F40-BBAD5473F7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56C817-8D69-4D94-B882-B0CEED3463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398900-1F52-418E-963F-8E66B52FAA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A8356A-008A-4995-B558-4B88A2273C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1A4FA5-4F79-4905-A451-BFD0E73D2F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B6DE7E-CC8F-4665-851E-8F4510EF06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9E6F8C-F0D0-4213-8577-F4860AEA07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D2B2B3-5283-4D5C-AF0A-AA00FEE63B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88E9888F-6E80-4182-BF90-12B5622AE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A564B0-7745-4F44-838A-575C929C06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5AD798-44CE-43DD-B652-5E50B1C9C2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177E20-8C59-44AB-BD32-EF413D4A64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0F8969-0C7B-4A70-B100-94726F6927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8C4D2D-D95B-4991-B75B-F303339210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7FE6819C-28D6-4B2F-9419-B01A38190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50BEA002-7F65-467F-B3D0-98ABDDD4B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0F38C6FE-9B14-4B55-9623-2BFCFE0CA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F0C31778-F8E6-4F64-9337-F2181B14C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A7CCC8FB-667F-4749-86BF-A5AD5E9CE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A7876E79-5050-4114-AFCD-4C2422EE8D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0A98744C-F1E1-49AB-B46F-8CCD40FAAB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676EF63C-CCF9-40AD-9FE2-62144A9B1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A8D80D41-7701-44D4-B7F6-F499F30A2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56D37D6D-5B9A-4F1C-8D84-075CCFCA6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286EA42F-FEBF-4CBB-BD25-4A4A2AFA61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C8DEC-4FC5-4B8D-AA4A-B58D3A632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ACE6B-1C92-4CCC-AEAD-0BB5D848D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5C6CB-0C9F-4AB6-8668-75D1628D6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74E70-BEF4-4D98-A163-E64F959E3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2A26E-E7A9-438F-9D71-7187531DD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992C373A-DF0D-4249-B47E-D66E772E4ED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D07D9-E3C0-4495-87E1-1D15B5D5F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90A82-E2B5-4AF8-953B-CCDBFA0B0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AA55B-F214-41FE-BC68-02C16F544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F7274-B8F6-42A3-88E4-5AA727FA4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0F0D5-C753-44AE-9FBC-2CBE157A6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9D24D-87EF-4CE5-A5EA-83F8F4BD5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4590F-92C3-4CF3-B613-C9A231C76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2274F9-E996-4F31-95C5-51DEE70C4E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A489E-48DD-4CF4-AE48-F7E850FC0E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1DEC62-55B3-408C-AC26-F9EB906EA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A32641BB-219F-4AAE-A655-0DDBCD8BEA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29184-4E51-4A0E-96BC-C1143F0385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4EE20-D846-471D-94A6-A28731A0E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744FE6-E3F6-456D-AF21-CD2E3688B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9B6D4-BEC9-4351-88A3-F84A02640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D2BA01-7433-42F1-AB89-33DC476FF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4923C-64F5-4FAE-857A-6320FA788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8A060-2DDD-4028-B0D4-8BA0E329AF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C3E3C9-986F-430E-8BA3-6999DDAE03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A1BAFC-72C0-4F94-9A85-D8D67BF2E0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A55392-7D82-4D5E-93CE-2935444167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628A713A-4229-4B0F-B23E-11A50D236E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81346-2969-475B-B684-ADD68F781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2D4DB5-2901-40A5-BB2D-2438A4326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B5E04F-50B9-4010-886E-6EB68900D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492CE-4432-49AC-9878-453E028D01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4F1A1D-338A-4804-8D54-95243049D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C3B83-0508-4F12-8248-4D04D3BD9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6C6A3-7C88-4B74-A2DC-DD24A3040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002E75-B844-4C6E-B453-569022957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5B268-AE49-46D6-859E-927C975091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C7F9B6-87F6-4CF4-B82B-7E0B15F103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C7290283-EBC5-4435-95D1-DC6A53F4211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34CE6D-C4C1-4D75-BAD7-1CE466DD4F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2BCF3A-F4A2-4DD1-8F9B-7F5966C8EF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05C968-0EA5-471D-8E65-281AFDB2CB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776A5D-4396-47F0-9819-3B457A0212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DC04BB-9C92-46A3-BB1B-7E25A4B1FC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5F064B-9C55-4493-9562-546DEBAD03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103277-203F-47FD-8D12-BE2FC0A79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CC5FA-7447-4434-A958-0ECD05F6A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FE38FC-0CE5-4D5E-BEE1-015BD9DF6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26785-DF37-46CF-8D7E-B5526BB50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16EC036D-77EC-455F-93E9-8B1C05F700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9406F5-5EE6-49B1-8AB4-5F18E0CB3F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F08684-D2BF-42F3-8CC7-44AE2273DC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33AD76-30DB-42E7-BF42-D4F48CA46A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7405B6-673D-4143-9D09-5F30C9841D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44FFD1-4099-4906-A808-3053C539B9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CDD48F-1BDD-4D53-AE1E-5F0EBAE889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EC698E-7E12-4405-8890-FA3DF07C11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31E3F-0833-479A-AEF5-E01A828FE5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9F4736-1684-4249-9862-30A810C34F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5F027-DAA8-459A-80D7-58712186B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E2175313-6187-44E6-93BD-C20266D9737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46D95-2113-44D8-9E3D-C339361F0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78C4C1-C18E-421F-BB6F-B9AA353D2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CB2BB7-693B-44D1-86E2-C20FD4881D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0C9E36-A50A-427C-9ABA-318CD15735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9BC2A1-16AE-4C29-A966-CE663E0990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6EC00A-E3CB-46FD-9A60-B1E5CE513B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B1AD47-45DB-4CFD-B435-1DECF96136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ECED09-DD49-4D60-AD62-30C045A5B8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683F6B-B7B5-4412-A8B1-CEC9EA4571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719F29-B733-4B81-8F8C-2C28F9E44D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65A7AA63-005F-43A9-A0EE-1060A2CCF4B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1B49E2-70F7-489A-887D-723D5499BA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9A8A43-90A4-4DCB-B11E-23C7356C4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E03D9B-CE26-43F5-AD62-1AA0DBD69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1892BF-4CD1-4B2E-B43A-385C046EE7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3A692-C4F5-43C4-B1DE-69512F6A2A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CD74DA-FD5F-4FE4-91DC-CC950DD276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C71A47-368F-42AF-90FB-1C945F7925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97259F-791C-4F4F-9742-642D2EBA66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A83439-51A3-4A9B-9E34-D03DF5460E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D85CB-B35A-4B1F-8C0B-33C3A35020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7B53-FCD6-4A5D-8DA7-15274FF86F5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13AC-41CE-4F63-9E41-3832458EE22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346F-608D-4576-80CD-B4C811049A0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EFBF-AFC2-4BA5-99B2-A7505689EA6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18A8-575B-4F9E-8EFC-DA8C71D6D6E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4D80-4B09-49F8-A9B0-B3499698B41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F33D-7009-4099-9197-804761CC71A2}"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004D-FBCE-4D38-98EE-5A04E97BF03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1AEA-8BCF-4E51-A1FF-EB07AB82D19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2E27-4E03-4ED1-99BF-DF9C266E1A2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A394-024F-4164-BE7F-879FAC32F32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C028-751D-44CD-9D5D-1868C78D080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0</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ext, demonstrate how you would skim the article (“reading” at three to four times normal speed).</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Note the first sentence (nice summary).</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Note the next-to-last paragraph, which contains the key point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ext, demonstrate how you would predict what the text will communicat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plain that the title makes you think the text will tell about the reasons something is happening.</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hare that you think the reasons will have something to do with exotic plants, their enemies, and the climate chang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ow read the artic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ow was your prediction?</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text is not useful?</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did this article deepen your understanding of how natural resource systems are inter-related and why proper management is key?</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view the next article, “Elevated Carbon Dioxide Spurs Shrub Growth.”</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can the article. (Quick look for key info: 5 to 10 second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did you take note of?</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kim the article (“reading” at three to four times normal speed).</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key information stands out to you?</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redict what the text will communicat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will this article tell us? Why do you think that? </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ow read the article.</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reflect on how this article helps deepen understanding of how natural resource systems are inter-related and why proper management is key.</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Go to the News archive of the USDA Agricultural Research Service: http://www.ars.usda.gov/is/pr/ </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an article that addresses the relationships in natural resource system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Browse the article titles. Select an article and use scanning and skimming to predict if the article meets the assignment requirements. </a:t>
            </a:r>
            <a:endParaRPr b="0" lang="en-US" sz="2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f so, print the article and highlight or circle the components and or words that led you to make the prediction.</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f not, search for another article until you find one.</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Natural Resources students use comprehension skills to read articles about natural resource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Natural Resources—NR1.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plain resource management components to establish relationships in natural resource system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R.2.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read fluently to comprehend grade-level tex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pply fluency strategie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kimming</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canning</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Predicting</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ading comprehension (understanding what is read) can be improved when strategies are employed.</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cann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s the name implies, you scan the entire text looking for key terms or main points. You take a quick look at images and graphs. The scanning process should only take 5 to 10 seconds per page. The goal is to get a general sense of the tex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kimm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kimming is more involved than scanning, but still not reading every word. You might read the first and last sentences of paragraphs because that’s where main ideas are often provided. The goal is to find the main ideas provided in the tex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redict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fter scanning and skimming, but before reading the text word-for-word, take a moment to predict what the text will communicate: will the text share an opinion, tell a story, provide useful information, challenge existing ideas, etc?</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ticle: “Why Invasive Plants Take Over”</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rst, demonstrate how you would scan the article. (Quick look for key info: 5 to 10 second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Note the titl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Note the image of leafy spurg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Note the words “enemies” and “outcompete” used frequently.</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7:31:02Z</dcterms:modified>
  <cp:revision>21</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62980591</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